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A97-11FA-4423-8F52-4B9F7C9C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3A9-088C-468B-A3E2-3FC117AD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C1D-3BCC-4B62-ADC8-A325C314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647C-9D35-4CFB-AF8E-2FD118AE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C344-8CFD-421B-B6EC-6B78B04B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A2DB-9C53-4A2D-A7D4-1DEF2CC9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1587-A150-472C-98E5-D9BE128F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0150-99B9-416B-BD17-E2D896C5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1312-4327-442B-8992-A9FA9081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8479-B80C-41AF-B444-F8FDDB35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750C-09C9-480D-B2BD-F6CFC57F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EDF-2BD3-4856-A998-A88B6F8B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8EAB-8BCC-4EC7-955B-4B7478F8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F563-0CF3-495A-9647-B8D8EE53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7C59-FDB3-436A-9ED4-BA7CE0F3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9D13-9E97-4765-93A4-988C7DE8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9CD0-EF6E-453F-A0EE-02B24FE5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755-5EB8-4D82-9779-3959EB9C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728-6CA4-4F89-9275-C3EBD710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B08-CE6F-4C76-BD0E-A553CD92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339-C0CE-4C9C-AE98-E1111323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5CA-D321-450F-A5AC-86A2BFEC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794-98D3-422A-AFF1-14D7DCCE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B9B-8C2F-4F8C-8BE0-2224F653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80F8-C0E1-4E0F-A5BA-269DD14232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E073-83BD-4D62-9730-11E57B903E4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ta Analysi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crib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s should be as detailed as is necess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nly transcribe the sections you feel are necessary to your discuss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General rul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umber the lines if the section i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dicate who is speak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f you ‘tidy up’ the transcript, say how you have done th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f you can’t hear, write (inaudible)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ction Research topic: teaching grammar using a C-R approac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collect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’ questionna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recor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ary 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utor’s feedback 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ers’ feedba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How will you integrate this into your assignme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-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ting, participants,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ussion of C-R litera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earch desig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ess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 feedback/Peer Feedba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alysis of spoken dat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kind of data is availabl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corded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ary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ers’ lo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udents’ 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bservers’ 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eld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a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 analysis and co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ook for </a:t>
            </a:r>
            <a:r>
              <a:rPr b="0" i="1" lang="en-GB" sz="2400" spc="-1" strike="noStrike">
                <a:solidFill>
                  <a:srgbClr val="006666"/>
                </a:solidFill>
                <a:latin typeface="Arial"/>
              </a:rPr>
              <a:t>repeated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anguage or ideas in the texts that you have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coloured pens, index cards or another system to code the respon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Your codes can either be </a:t>
            </a:r>
            <a:r>
              <a:rPr b="0" i="1" lang="en-GB" sz="2400" spc="-1" strike="noStrike">
                <a:solidFill>
                  <a:srgbClr val="006666"/>
                </a:solidFill>
                <a:latin typeface="Arial"/>
              </a:rPr>
              <a:t>‘a priori’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(you decide on these before you start to code) or they can </a:t>
            </a:r>
            <a:r>
              <a:rPr b="0" i="1" lang="en-GB" sz="2400" spc="-1" strike="noStrike">
                <a:solidFill>
                  <a:srgbClr val="006666"/>
                </a:solidFill>
                <a:latin typeface="Arial"/>
              </a:rPr>
              <a:t>emerge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rom the da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Questionnaires are likely to have a priori categories for closed questions; fieldnotes, diaries, tapescripts are likely to have a mixture of bo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alysis of Spoken Discour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Coding system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e.g. IR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Types of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:  e.g. questions (open vs closed; genuine vs display; lower order vs higher order) or answers (one word; medium turns; long turns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Quality of: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.g teacher talk; student talk; explanations (vocabulary/grammar); instructions; teacher-student interaction; checking understan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Amount of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 talk/teacher talk; whole class work/pair work/group work/individual work; wait time; thinking time; working with students’ answers (dialogic talk); silence; one student speaking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iangul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 tool used in qualitative research to help ensure validity (that the research is of good quality and acceptable.  Internal validity: that the claims made are trustworthy; external validity: how generalisable are our claims).                         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searchers elicit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multiple perspective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n the situation being studi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oosing data for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lk is designed to be heard, not read, so never move straight from recording to transcribing: always take time to listen carefully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chards, 2003:18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listen to the tape you’ve made, your first reaction will be, ‘Nothing’s happening’.  In my experience, this 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case when someone new to analysis listens to a tape for the first time…..listen to your tape over and over and over again …until you find part of the lesson where something interesting is happening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chards, 2003: 18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7-11-29T09:47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